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D78C-2E13-4F42-BC70-5BC8BDAD2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ADBB-F7C6-49E4-9048-DF0CD32D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C0AC-326E-4B56-BAAA-9B5CC501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6F1E-22BF-4FDE-BC63-C108051F0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4DB9-37D0-4FED-9F1E-B4CD2E1D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1E13-EF42-4A89-A898-0086663C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41A7-0A61-43D2-9DDE-71F57859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4ACC-D575-48D7-87E9-667C96E2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D0B7-5BA8-4BD3-AA05-EA64C4D4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67BF-B8E6-47C5-BE59-986E76FD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09BC-46EB-4224-85BE-3904B04F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2C19-9FC8-4894-9A06-C4CE0D51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0066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ACED-B14B-439E-A25C-6C69346CC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0066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AU" sz="5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21932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ge of people survey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19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209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943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733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2209680"/>
            <a:ext cx="0" cy="464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51460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5-1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19112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18-3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63868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30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2514600"/>
            <a:ext cx="419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419112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90920" y="571500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133720" y="228600"/>
            <a:ext cx="480060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Water Survey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81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0066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AU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28600" y="2927520"/>
          <a:ext cx="6705720" cy="354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927520"/>
                    <a:ext cx="670572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 txBox="1"/>
          <p:nvPr/>
        </p:nvSpPr>
        <p:spPr>
          <a:xfrm>
            <a:off x="0" y="228600"/>
            <a:ext cx="914400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0000"/>
                    </a:gs>
                    <a:gs pos="100000">
                      <a:srgbClr val="ffff00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When you fill a cup with water, do you drink it all  or tip some down the sink?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0000"/>
                  </a:gs>
                  <a:gs pos="100000">
                    <a:srgbClr val="ffff00"/>
                  </a:gs>
                </a:gsLst>
                <a:lin ang="81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6553080" y="289548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266688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2819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77120" y="2506680"/>
            <a:ext cx="2514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sults show that only 7 people are doing the right thing and drinking their water and 9 are wasting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0066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AU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0" y="2438280"/>
          <a:ext cx="6324480" cy="40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38280"/>
                    <a:ext cx="6324480" cy="40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 txBox="1"/>
          <p:nvPr/>
        </p:nvSpPr>
        <p:spPr>
          <a:xfrm>
            <a:off x="0" y="533520"/>
            <a:ext cx="914400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e3fa04"/>
                    </a:gs>
                    <a:gs pos="50000">
                      <a:srgbClr val="ff0000"/>
                    </a:gs>
                    <a:gs pos="100000">
                      <a:srgbClr val="e3fa04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Do you turn off the tap when you brush your teeth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e3fa04"/>
                  </a:gs>
                  <a:gs pos="50000">
                    <a:srgbClr val="ff0000"/>
                  </a:gs>
                  <a:gs pos="100000">
                    <a:srgbClr val="e3fa04"/>
                  </a:gs>
                </a:gsLst>
                <a:lin ang="81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6553080" y="34290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48520" y="3165480"/>
            <a:ext cx="153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77120" y="2743200"/>
            <a:ext cx="266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sults show that 6 people are doing the right thing and 11 are wasting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0066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-304920" y="2362320"/>
          <a:ext cx="62485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2362320"/>
                    <a:ext cx="62485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 txBox="1"/>
          <p:nvPr/>
        </p:nvSpPr>
        <p:spPr>
          <a:xfrm>
            <a:off x="0" y="228600"/>
            <a:ext cx="914400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When your in the shower, do you wash yourself or let the nice water go on you?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81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2743200"/>
            <a:ext cx="2971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sults show that 4 people are doing the right thing and 9 people are doing both wash themselves and let the hot water go on you which is OK and 3 people are doing the wrong thing just letting the hot water go on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0066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2514600"/>
          <a:ext cx="6019920" cy="35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14600"/>
                    <a:ext cx="6019920" cy="35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 txBox="1"/>
          <p:nvPr/>
        </p:nvSpPr>
        <p:spPr>
          <a:xfrm>
            <a:off x="228600" y="533520"/>
            <a:ext cx="8458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0000"/>
                    </a:gs>
                    <a:gs pos="100000">
                      <a:srgbClr val="ffff00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Do you water your garden on days you’re not allowed to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0000"/>
                  </a:gs>
                  <a:gs pos="100000">
                    <a:srgbClr val="ffff00"/>
                  </a:gs>
                </a:gsLst>
                <a:lin ang="81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26668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943600" y="2362320"/>
            <a:ext cx="281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sults show that 7 people do the wrong thing and waste water and 9 people do the right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006699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ate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used in NSW for 2004-05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was 5,922 G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One Gig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itre = 1000 Megalitres. One Megalitre= One millio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litres)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tota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f 70% of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wate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as been used in agriculture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11% of wate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sage was sewage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ouseholds used 1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09480" y="304920"/>
            <a:ext cx="830592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Government figures on water usage 04-05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</cp:lastModifiedBy>
  <dcterms:modified xsi:type="dcterms:W3CDTF">2009-04-23T22:57:57Z</dcterms:modified>
  <cp:revision>54</cp:revision>
  <dc:subject/>
  <dc:title>PowerPoint Presentation</dc:title>
</cp:coreProperties>
</file>